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2E1-D8A5-4050-AB35-0F3F4869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878-5FBB-46EB-BDB2-2AFC004D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085-9130-47CD-9E99-50023E51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0FD-7A58-4F7D-8455-EA648975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0CD4-54C7-4548-82A6-FBC263D2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55CC-2CF9-4E28-931C-7179B342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ED3E-10C0-4C6E-8258-CEAC7214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4E8E-E6D6-47A2-8611-30FC4DC0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B0BA-B40A-4866-94D3-D1BF876E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F353-7AE2-4CF2-B7A8-A8F3E1E5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1FDB-528B-4B62-B43B-912BC6F7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27A-1458-45A1-A8FB-CD423675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91EE-6E94-4199-8AFE-CB650A68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CFC8-F4CA-412D-AAB1-5761D748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45E0-E4F6-458A-B6A9-B5FA8ADD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65CE-0563-4360-85C9-52B68876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AD22-BE22-410E-8026-7496375A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4066-FFE3-4569-9A54-3241033F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5148-2B48-4788-B60A-274DE6F5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464D-7BA4-4099-84CA-4A8DE26B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A4CD-BF1F-49D7-A0CC-4B3BA7BE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7300-4842-4E4B-AE03-920525FA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53E-BC0D-4022-861C-BD7E55B9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4968-28FC-4764-BF97-793EB61F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287A-451A-494A-86F9-C930EBB5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32979-BA94-40EC-9016-A28FBD56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990C-3A45-488A-84DA-35CB8EA7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B1AC-F5EF-442A-91B2-3E38374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50FE-6365-4BA1-ADB8-15C1135A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E722-10FC-4ABC-8DF1-8ECA0A48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CA91-C58C-48AF-86CB-372374F9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13A1-C3AE-44A2-AC3F-BECD98A0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6C56C-B84C-47D0-83B4-860F0CBE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633-42A1-4826-A7C0-EF9C579D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738C9-81C0-48D4-8E4E-9BD41704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C467-C82B-4693-9398-224BDFA7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7F31D-C061-4BE1-B267-07DF05CE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EF86-EEF2-4704-BDDF-A92CF6A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2FC0-0E91-4F55-9E1F-5ADB1672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30884-776C-4B39-BE79-912BC8B4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EEE86-B2FE-4762-88F5-754EFDBF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D1F8E-3725-4477-8843-F4B355B8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5C938-0D5F-435D-B073-0717C114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2003D-A16F-4C87-A082-DFF629C5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732-F55C-4370-A3B4-DA264608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E8828-12CF-4393-A19B-F23EF314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1610E-5007-4297-A4CC-133E37E4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167D-3679-437F-8BD6-90555012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72DB4-37A7-4FFF-8E3F-E035EE54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D1AFA-C316-412A-A72A-3B69D0EC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E4215-A5FC-4FFE-A631-A4715112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D3B91-CE1B-4DCD-BAB7-DEA59E94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FBF80-7ABA-4655-A7C9-543B8194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E615D-A508-4F35-BF77-CC847865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A70A0-7215-4F3D-89F7-67DA0344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30A-6A17-49BA-9779-73D6E055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16094-3833-47DB-A852-555386D3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D4E-4A1F-4A3B-B5D7-4C62D3B3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E5B-F8AC-4923-BEC5-35320790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ECD-65C7-4567-880A-E9CFB8B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0401-55E1-4C51-BC9E-2D1081FDAC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5C65-7DE5-4698-B01A-07EFB03206B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90F5-B5C0-4B19-8F1E-E7E269F927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E4F0-5E9B-4E65-B619-70A07FF7B12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45CF-3CAB-404F-BAF3-57C76D1539F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litva.ru/" TargetMode="External"/><Relationship Id="rId3" Type="http://schemas.openxmlformats.org/officeDocument/2006/relationships/hyperlink" Target="http://www.liveinternet.ru/" TargetMode="External"/><Relationship Id="rId4" Type="http://schemas.openxmlformats.org/officeDocument/2006/relationships/hyperlink" Target="http://www.zoovet.ru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Отряды пти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200400" y="3505320"/>
            <a:ext cx="4572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Л. И. Наб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 СОШ №80 им. В. П.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п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общую характеристику отрядов птиц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-отряд Дневные хищные пт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-отряд Сов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-отряд Ку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-отряд Воробьин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-отрядАист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упление с характеристикой признаков указанного отряда, заполнить таблицу в рабочей тетр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7940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447920"/>
          <a:ext cx="8229600" cy="512100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5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533520"/>
          <a:ext cx="8077320" cy="60213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умеренной длины, у большинства с острыми когтями. Клюв крючковидный, изогнут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треб, сокол, гри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ороткие или умеренно длинные, наружный палец может быть обращен и впереди и назад. Надклювье загнутое, с острыми кра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а, пустыни, тундра, го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н, ушастая сова, домовой сыч, сипух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средней длины, ильные; крылья короткие, широкие; летают тяжело. Клюв короткий, сильный; надклювье слегка загнуто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и, леса, пустын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к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ев, фазан, индейка, куропатк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гах первый палец обращен назад. строение крыльев и клюва разнообраз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, дрозд, ласточка, синица, жаворон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е ноги, гибкая длинная шея, маленькая голова, Клюв удлиненный, заостренный. Перьевой покров рыхлый, крылья относительно большие, широкие. Хвост коротки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пля рыжая, выпь малая, аист бел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2" name="Rectangle 134"/>
          <p:cNvSpPr/>
          <p:nvPr/>
        </p:nvSpPr>
        <p:spPr>
          <a:xfrm>
            <a:off x="30492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вучить видеозапись представителей отрядов в виде монолога животного, указав признаки, распространение, образ жизни, голос данного представ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ел степ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а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х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ек пол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 большая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россворд «Птицы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изонтали: 1. Мелкий представитель воробьинообразных. 2. Нелетающая, но хорошо плавающая и ныряющая птица. 3. Вид дро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Крупная нелетающая птица. 6. Птица из отряда воробьинообразных, в песне которой слыш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Ты Витю видел?». 8. Представитель воробьинообразных, мельче воробья. 9. Крупный дневной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0. Представитель воробьинообразных, прекрасный певец. 16. Вид крупных говорящих попуг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 Птица из семейства вьюр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вертикали: 4. Птица — дневной хищник. 6. Мелкая утка. 7. Яркоокрашенный представитель курообразных. 8. Птица из отряда воробьинообразных. 11. Представитель вр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2. Синица, вьющая гнездо из пуха в виде «варежки». 13. Мелкая сова.  15. Крупная морская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какие из этих птиц действительно могут поселиться в сквореч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кроссвор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изонтали: 1. Воробей. 2 . Пингвин. 3. Рябинник. 5. Страус. 6. Чечевица. 8. Пищуха. 9. орел. 10. соловей. 14. Скворец. 16. Ара. 17. Чи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вертикали: 4. Ястреб. 6. чирок. 7. Фазан. 8. пеночка. 11. ворон. 12. Ремез. 13. Сыч. 15. Буревес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 воробей, пищуха, скворец, пен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икторина «Живые синонимы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 в русской речи мы используем слова-синонимы, которые могут отразить и характер человека, внешний вид, особенности передвижения, особенности разговора. Например, мы говорим «топаешь как медведь», «это и ежу понятно», «голодный как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какими птицами сравнивают человека, когда говор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Щебечет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Ворковать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Шипеть,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Накаркать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Долбить (говорить одно и то же)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Надутый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Плыть (идти плавно)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тветы на вопросы викторин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Г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В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Дят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Инд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 интересно было сегодня работат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узнали нового и интерес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WordArt 4"/>
          <p:cNvSpPr txBox="1"/>
          <p:nvPr/>
        </p:nvSpPr>
        <p:spPr>
          <a:xfrm>
            <a:off x="1295280" y="22860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ведём  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многообразие птиц различных отря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особенности строения птиц, связанные с образом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овать роль птиц в природе и хозяйственной деятельности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ть находить известных птиц на рисунках, фотографиях, таблицах, находить необходимую информацию в тексте, электронном пособ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Латюшин В. В., Шапкин В. А. Биология. Животные: Учебник для 7 кл. общеобразоват. учеб, заведений. - М.: Дрофа, 2008 - 304 с.: и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. Латюшин В.В. Биология. Животные 7 класс Тематическое и поурочное планирование к учебнику В.В. Латюшина и В.А.Шапкина «Биология. Животные»: Пособие для учителя 2-е изд.,стереотип-М.: Дрофа, 2003-193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И.Ф. Ишкина Биология. 7 класс. Поурочные планы по учебнику В.В. Латюшина и В.А.Шапкина. Издательство «Учитель АСТ», Волгоград 2002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Анашкина Е.Н. Кроссворды для школьников. Биология.- Ярославль.6 «Академия развития», 1997.-128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Алексеев В.А. 300 вопросов и ответов о животных. –Ярославль: Академия развития, 1997.-240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Мультимедийный справочник-определитель. Животный мир России. Птицы. Европкйская Россия, Урал, Западная Сибирь//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O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Авторы: В.К. Рябицев, О.Д. Вепринцева, Н.Ю. Киселева, А.А. Мосалов, Н.П. Овсянникова,  С.А. Букреев, О.В. Безюмки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Фото Императорский пингвин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alitva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Фото Африканский страус //subaryata.org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Фото Американский нанду// alexsh16.livejournal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Фото Казуар// vbkfzrjitxrf.beon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Фото Серый гусь// en.academic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Фото Казарка краснозобая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veintern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Фото Лебедь шипун //zoopar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Фото Орел степной// pesi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Фото Сова белая// fotki.yandex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Фото Глухарь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zoov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ото Конек полевой //lifecity.com.u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Фото Цапля большая белая// www.omskhunter.com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Задани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те рисунки птиц разных отрядов. Выполните следующие зад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название птицам, изображённым на фо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отряды, к которым относятся данные пт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признаки отряда. (по выбор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из них занесены в красную книгу Новосибирской обла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8" descr="http://im4-tub.yandex.net/i?id=108655168&amp;tov=4"/>
          <p:cNvPicPr/>
          <p:nvPr/>
        </p:nvPicPr>
        <p:blipFill>
          <a:blip r:embed="rId1"/>
          <a:stretch/>
        </p:blipFill>
        <p:spPr>
          <a:xfrm>
            <a:off x="6477120" y="1828800"/>
            <a:ext cx="2074680" cy="196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http://im0-tub.yandex.net/i?id=6145330&amp;tov=0"/>
          <p:cNvPicPr/>
          <p:nvPr/>
        </p:nvPicPr>
        <p:blipFill>
          <a:blip r:embed="rId2"/>
          <a:stretch/>
        </p:blipFill>
        <p:spPr>
          <a:xfrm>
            <a:off x="6770520" y="4495680"/>
            <a:ext cx="1748160" cy="213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1" descr="http://im8-tub.yandex.net/i?id=11458522&amp;tov=8"/>
          <p:cNvPicPr/>
          <p:nvPr/>
        </p:nvPicPr>
        <p:blipFill>
          <a:blip r:embed="rId3"/>
          <a:stretch/>
        </p:blipFill>
        <p:spPr>
          <a:xfrm>
            <a:off x="2514600" y="44956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i?id=99095301&amp;tov=4"/>
          <p:cNvPicPr/>
          <p:nvPr/>
        </p:nvPicPr>
        <p:blipFill>
          <a:blip r:embed="rId4"/>
          <a:stretch/>
        </p:blipFill>
        <p:spPr>
          <a:xfrm>
            <a:off x="320040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8"/>
          <p:cNvSpPr/>
          <p:nvPr/>
        </p:nvSpPr>
        <p:spPr>
          <a:xfrm>
            <a:off x="12193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40384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73915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990720" y="418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3"/>
          <p:cNvSpPr/>
          <p:nvPr/>
        </p:nvSpPr>
        <p:spPr>
          <a:xfrm>
            <a:off x="31240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5"/>
          <p:cNvSpPr/>
          <p:nvPr/>
        </p:nvSpPr>
        <p:spPr>
          <a:xfrm>
            <a:off x="5334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73915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1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6" descr=""/>
          <p:cNvPicPr/>
          <p:nvPr/>
        </p:nvPicPr>
        <p:blipFill>
          <a:blip r:embed="rId6"/>
          <a:stretch/>
        </p:blipFill>
        <p:spPr>
          <a:xfrm>
            <a:off x="457200" y="4495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8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азуар. Отряд Казуа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Лебедь шипун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Африканский страус. Отряд Страус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Казарка краснозобая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ерый гусь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Императорский пингвин. Отряд Пинг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Американский нанду. Отряд Нанду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те рисунок. Выполните следующие зад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название птице, изображённой на ф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ть отряд, к которому относится данный ви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?id=11231&amp;tov=6"/>
          <p:cNvPicPr/>
          <p:nvPr/>
        </p:nvPicPr>
        <p:blipFill>
          <a:blip r:embed="rId1"/>
          <a:stretch/>
        </p:blipFill>
        <p:spPr>
          <a:xfrm>
            <a:off x="914400" y="129528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i?id=86208267&amp;tov=3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i?id=35598883&amp;tov=4"/>
          <p:cNvPicPr/>
          <p:nvPr/>
        </p:nvPicPr>
        <p:blipFill>
          <a:blip r:embed="rId3"/>
          <a:stretch/>
        </p:blipFill>
        <p:spPr>
          <a:xfrm>
            <a:off x="609480" y="42670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i?id=23074610&amp;tov=2"/>
          <p:cNvPicPr/>
          <p:nvPr/>
        </p:nvPicPr>
        <p:blipFill>
          <a:blip r:embed="rId4"/>
          <a:stretch/>
        </p:blipFill>
        <p:spPr>
          <a:xfrm>
            <a:off x="3429000" y="42670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?id=3198956&amp;tov=3"/>
          <p:cNvPicPr/>
          <p:nvPr/>
        </p:nvPicPr>
        <p:blipFill>
          <a:blip r:embed="rId5"/>
          <a:stretch/>
        </p:blipFill>
        <p:spPr>
          <a:xfrm>
            <a:off x="60958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11430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8098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8580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5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828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791320" y="914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86728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группа- Орел степной. Отряд Дневные хищные птицы (Соколообраз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группа- Сова белая. Отряд С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группа- Глухарь. Отряд Кури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группа- Конек полевой. Отряд Воробьин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группа- Цапля большая белая. Отряд Аист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4-10T15:0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